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3B79-0529-460C-91B6-233DE7F3B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5982-9F30-423C-BDD8-D05A8147F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2631-A7B0-4CCF-A9F2-C14DDCFEE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51C9-EF4D-4C07-9B59-9FB9FECB7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0FE4-D914-40B9-926A-765CCBBEF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2EED-BF4D-4402-9EF7-64DA86513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46B9-A662-4FF4-83E6-F89325FBD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1469-7997-4238-9221-EB67DBDBF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001D-8422-432F-8015-F8CE16D12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4E48-EC61-42FC-AC24-CEDBCD02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FDC9-11B6-4C87-BC59-0021EB23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CEAE-E5F1-4C27-9B11-C40BED70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049FA-D63E-4A5F-8639-27EDD4738F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00120"/>
            <a:ext cx="7772400" cy="21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EVALUATION OF THE EFFECT OF MELATONIN IN RAT HEART TISSUE WITH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LOXAN DIABE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shnir O.Y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Department of bioorganic and biological chemistry and clinical biochemist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Bukovinian State Medical Univers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620720" y="5934240"/>
            <a:ext cx="5902560" cy="615240"/>
          </a:xfrm>
          <a:prstGeom prst="rect">
            <a:avLst/>
          </a:prstGeom>
          <a:solidFill>
            <a:srgbClr val="f8f9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-12600" bIns="-126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02124"/>
                </a:solidFill>
                <a:latin typeface="Arial Unicode MS"/>
                <a:ea typeface="inherit"/>
              </a:rPr>
              <a:t>May 19, 2022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02124"/>
                </a:solidFill>
                <a:latin typeface="Arial Unicode MS"/>
                <a:ea typeface="inherit"/>
              </a:rPr>
              <a:t>Kharkiv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al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59984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termine the effect of melatonin on baseline blood glucose levels, glycogen content, activities of glucose-6-phosphate dehydrogenase, pyruvate kinase and lactate dehydrogenase in the heart muscle tissue of rats with alloxan diabetes mellitus with preserved glycem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xperiments were performed on 50 adult male rats with body weight 0.18-0.20 kg. Diabetes was induced by intraperitoneal injection of 5% aloxane monohydrate solution at the rate of 170 mg / kg body weight. The animals were distributed on 3 groups: 1) control group; 2) group with diabetes mellitus (BG) &lt;6.9 mmol / L); 3) diabetic animals with preserved glycemia, which were administered melatonin. Melatonin (Sigma, USA) was administered intraperitoneally at the rate 5 mg / kg body weight daily for 120 days, starting on the 5th day after injection alloxa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28760" y="2786040"/>
            <a:ext cx="82296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rats with diabetes, LDH activity increased by an average of 30%, whereas glycogen content and PC activity decreased by an average of 20%, 29%, and G6PD increased by 35% compared to control values. Increase G6PD activity in the state of preserved glycemia is probably a compensatory reaction, aimed at reducing the active forms of oxygen. Introduction of melatonin (120 daily injections of 5 mg / kg) improved carbohydrate metabolism: BG level, content glycogen, PC activity, G6PD and LDH were normaliz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results demonstrated that alloxan monohydrate has an action with formation of differe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ucose tolerance profiles in rats with alloxan diabe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4" descr="1-s2.0-S1010660X18300107-gr2.jpg"/>
          <p:cNvPicPr/>
          <p:nvPr/>
        </p:nvPicPr>
        <p:blipFill>
          <a:blip r:embed="rId1"/>
          <a:stretch/>
        </p:blipFill>
        <p:spPr>
          <a:xfrm>
            <a:off x="1143000" y="2071800"/>
            <a:ext cx="678672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ctate dehydrogenase, mkmol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g, 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=6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±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x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Содержимое 3" descr=""/>
          <p:cNvPicPr/>
          <p:nvPr/>
        </p:nvPicPr>
        <p:blipFill>
          <a:blip r:embed="rId1"/>
          <a:stretch/>
        </p:blipFill>
        <p:spPr>
          <a:xfrm>
            <a:off x="500040" y="1428840"/>
            <a:ext cx="8229600" cy="4168800"/>
          </a:xfrm>
          <a:prstGeom prst="rect">
            <a:avLst/>
          </a:prstGeom>
          <a:ln w="0">
            <a:noFill/>
          </a:ln>
        </p:spPr>
      </p:pic>
      <p:sp>
        <p:nvSpPr>
          <p:cNvPr id="52" name="Заголовок 1"/>
          <p:cNvSpPr/>
          <p:nvPr/>
        </p:nvSpPr>
        <p:spPr>
          <a:xfrm>
            <a:off x="4500720" y="1571760"/>
            <a:ext cx="5713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Заголовок 1"/>
          <p:cNvSpPr/>
          <p:nvPr/>
        </p:nvSpPr>
        <p:spPr>
          <a:xfrm>
            <a:off x="7072200" y="2000160"/>
            <a:ext cx="5716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Заголовок 1"/>
          <p:cNvSpPr/>
          <p:nvPr/>
        </p:nvSpPr>
        <p:spPr>
          <a:xfrm>
            <a:off x="571680" y="5572080"/>
            <a:ext cx="82296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, b -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changes are reliable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≤0,05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- concern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rats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 concern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ts with diabetes mellitus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yruvate kinase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kmol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g,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=6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±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x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3" descr=""/>
          <p:cNvPicPr/>
          <p:nvPr/>
        </p:nvPicPr>
        <p:blipFill>
          <a:blip r:embed="rId1"/>
          <a:stretch/>
        </p:blipFill>
        <p:spPr>
          <a:xfrm>
            <a:off x="428760" y="1571760"/>
            <a:ext cx="8229600" cy="3929040"/>
          </a:xfrm>
          <a:prstGeom prst="rect">
            <a:avLst/>
          </a:prstGeom>
          <a:ln w="0">
            <a:noFill/>
          </a:ln>
        </p:spPr>
      </p:pic>
      <p:sp>
        <p:nvSpPr>
          <p:cNvPr id="57" name="Заголовок 1"/>
          <p:cNvSpPr/>
          <p:nvPr/>
        </p:nvSpPr>
        <p:spPr>
          <a:xfrm>
            <a:off x="571680" y="5572080"/>
            <a:ext cx="82296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, b -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changes are reliable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≤0,05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- concern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rats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 concern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ts with diabetes mellitus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ucose-6phosphate dehydrogenase, mkmol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n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g,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=6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x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Содержимое 3" descr=""/>
          <p:cNvPicPr/>
          <p:nvPr/>
        </p:nvPicPr>
        <p:blipFill>
          <a:blip r:embed="rId1"/>
          <a:stretch/>
        </p:blipFill>
        <p:spPr>
          <a:xfrm>
            <a:off x="500040" y="100008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Заголовок 1"/>
          <p:cNvSpPr/>
          <p:nvPr/>
        </p:nvSpPr>
        <p:spPr>
          <a:xfrm>
            <a:off x="571680" y="5357880"/>
            <a:ext cx="82296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, b -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changes are reliable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≤0,05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- concern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rats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 concern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ts with diabetes mellitus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5998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is case, melatonin is likely to increase glucose utilization for NADP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egeneration and aerobic oxidation of glucose, indicating accelerating antioxidant protection and energy production in the heart of diabetics ra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sha</dc:creator>
  <dc:description/>
  <dc:language>en-US</dc:language>
  <cp:lastModifiedBy>ASUS</cp:lastModifiedBy>
  <dcterms:modified xsi:type="dcterms:W3CDTF">2022-05-11T08:39:04Z</dcterms:modified>
  <cp:revision>20</cp:revision>
  <dc:subject/>
  <dc:title>Слайд 1</dc:title>
</cp:coreProperties>
</file>