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18EB-49EC-46F6-9E58-305D90FA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33F0-DB4B-45D4-8C7D-6EAD89D1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CD0-956D-4422-BD4F-73E5595F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DDF-A1B2-43E3-AB0A-C85E4FD3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291-81F2-43EC-B5C5-8DE6F528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F12D-5D5B-4268-840B-F944893C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04B0-E43A-4F21-9104-4130E682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6BB4-D71E-4CF0-A036-75FC3925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E62A-402F-4353-AF20-DB81E1F7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6341-07D1-4363-A274-D713FC32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03F0-9750-4556-B31B-70D70652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631-B8CD-4DAA-BB46-BB097BB2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4AA7-FCC5-41E0-9686-A9A43A7170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00120"/>
            <a:ext cx="777240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VALUATION OF THE EFFECT OF MELATONIN IN RAT HEART TISSUE WITH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LOXAN DIABE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shnir O.Y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Department of bioorganic and biological chemistry and clinical biochemi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Bukovinian State Medical Univers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620720" y="5934240"/>
            <a:ext cx="5902560" cy="615240"/>
          </a:xfrm>
          <a:prstGeom prst="rect">
            <a:avLst/>
          </a:prstGeom>
          <a:solidFill>
            <a:srgbClr val="f8f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12600" bIns="-12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2124"/>
                </a:solidFill>
                <a:latin typeface="Arial Unicode MS"/>
                <a:ea typeface="inherit"/>
              </a:rPr>
              <a:t>May 19, 2022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2124"/>
                </a:solidFill>
                <a:latin typeface="Arial Unicode MS"/>
                <a:ea typeface="inherit"/>
              </a:rPr>
              <a:t>Kharkiv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the effect of melatonin on baseline blood glucose levels, glycogen content, activities of glucose-6-phosphate dehydrogenase, pyruvate kinase and lactate dehydrogenase in the heart muscle tissue of rats with alloxan diabetes mellitus with preserved glycem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periments were performed on 50 adult male rats with body weight 0.18-0.20 kg. Diabetes was induced by intraperitoneal injection of 5% aloxane monohydrate solution at the rate of 170 mg / kg body weight. The animals were distributed on 3 groups: 1) control group; 2) group with diabetes mellitus (BG) &lt;6.9 mmol / L); 3) diabetic animals with preserved glycemia, which were administered melatonin. Melatonin (Sigma, USA) was administered intraperitoneally at the rate 5 mg / kg body weight daily for 120 days, starting on the 5th day after injection alloxa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28760" y="278604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rats with diabetes, LDH activity increased by an average of 30%, whereas glycogen content and PC activity decreased by an average of 20%, 29%, and G6PD increased by 35% compared to control values. Increase G6PD activity in the state of preserved glycemia is probably a compensatory reaction, aimed at reducing the active forms of oxygen. Introduction of melatonin (120 daily injections of 5 mg / kg) improved carbohydrate metabolism: BG level, content glycogen, PC activity, G6PD and LDH were normaliz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results demonstrated that alloxan monohydrate has an action with formation of differ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se tolerance profiles in rats with alloxan diabe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4" descr="1-s2.0-S1010660X18300107-gr2.jpg"/>
          <p:cNvPicPr/>
          <p:nvPr/>
        </p:nvPicPr>
        <p:blipFill>
          <a:blip r:embed="rId1"/>
          <a:stretch/>
        </p:blipFill>
        <p:spPr>
          <a:xfrm>
            <a:off x="1143000" y="2071800"/>
            <a:ext cx="6786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tate dehydrogenase, mkmol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g,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=6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500040" y="1428840"/>
            <a:ext cx="8229600" cy="41688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4500720" y="1571760"/>
            <a:ext cx="5713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7072200" y="2000160"/>
            <a:ext cx="571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571680" y="557208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, b 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changes are reliable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≤0,05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- concer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rats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concer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s with diabetes mellitus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uvate kinase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kmol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g,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=6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8229600" cy="3929040"/>
          </a:xfrm>
          <a:prstGeom prst="rect">
            <a:avLst/>
          </a:prstGeom>
          <a:ln w="0">
            <a:noFill/>
          </a:ln>
        </p:spPr>
      </p:pic>
      <p:sp>
        <p:nvSpPr>
          <p:cNvPr id="57" name="Заголовок 1"/>
          <p:cNvSpPr/>
          <p:nvPr/>
        </p:nvSpPr>
        <p:spPr>
          <a:xfrm>
            <a:off x="571680" y="557208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, b 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changes are reliable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≤0,05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- concer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rats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concer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s with diabetes mellitus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ucose-6phosphate dehydrogenase, mkmol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g,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=6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x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Заголовок 1"/>
          <p:cNvSpPr/>
          <p:nvPr/>
        </p:nvSpPr>
        <p:spPr>
          <a:xfrm>
            <a:off x="571680" y="535788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, b 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changes are reliable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≤0,05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- concer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rats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concer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s with diabetes mellitus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is case, melatonin is likely to increase glucose utilization for NADP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generation and aerobic oxidation of glucose, indicating accelerating antioxidant protection and energy production in the heart of diabetics r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sha</dc:creator>
  <dc:description/>
  <dc:language>en-US</dc:language>
  <cp:lastModifiedBy>ASUS</cp:lastModifiedBy>
  <dcterms:modified xsi:type="dcterms:W3CDTF">2022-05-11T08:39:04Z</dcterms:modified>
  <cp:revision>20</cp:revision>
  <dc:subject/>
  <dc:title>Слайд 1</dc:title>
</cp:coreProperties>
</file>